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EFB-3F9F-4995-84F7-3F9469A8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1ED-C70D-49AD-B352-1E02EDFC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F7C-2D37-4F17-A667-38291F98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72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752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72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752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BCE-F731-4362-B23A-2A7E1114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6BEA-B3AD-45BE-B23E-DA165086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ADF8-291C-4537-8987-87F8A96B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FF31-0A43-49BF-9FA6-F25C5E79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8CEA-1CED-4B26-A1A8-09A46288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F857-5518-4EE3-A031-D9B53BA0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DC78-3BDD-4758-96E0-86DE2C13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8AC9-D1F0-4D71-98F7-F4BC24FA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5E0-4AD2-46CA-8758-DF0E1B69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5265-611A-4283-B254-69CD01E9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3523-EF01-43AD-AA5B-BBADE750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2C07-8BAD-4B0F-BD40-F7A08520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7786-A35F-4CC9-A01A-7EBCAC09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72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752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72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752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1D26-E062-4E29-823F-1282861A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678-3F09-4317-9FFE-890F9A2C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221-687A-42B8-B235-B9FE1240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1980-9BBF-4892-ACEC-4B8E7D08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B43F-D2D6-489D-A4D7-95C67A3C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F04-04EE-4B8D-91D9-76F64DF2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024-DF78-4ED9-B5A8-AB9440EE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182-114F-45F0-B285-E07EE66A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1" marL="579240" indent="-22284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891360" indent="-17820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3" marL="1248120" indent="-17820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4" marL="1604520" indent="-178200">
              <a:spcBef>
                <a:spcPts val="901"/>
              </a:spcBef>
              <a:buClr>
                <a:srgbClr val="cc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5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6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5237-AA0C-4038-9A85-C287FB5B39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AE0A-6E05-4F5B-A5D6-C71B8DE5D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043C-E0CB-48B2-832B-CB7054D4F3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C3DA-2364-467D-BA5E-7AE871BD5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cc0000"/>
              </a:solidFill>
              <a:latin typeface="Andy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896040" algn="ctr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3" marL="1343880" algn="ctr">
              <a:spcBef>
                <a:spcPts val="601"/>
              </a:spcBef>
              <a:buClr>
                <a:srgbClr val="cc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4" marL="1792080" algn="ctr">
              <a:spcBef>
                <a:spcPts val="601"/>
              </a:spcBef>
              <a:buClr>
                <a:srgbClr val="cc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5" marL="1792080">
              <a:spcBef>
                <a:spcPts val="6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6" marL="1792080">
              <a:spcBef>
                <a:spcPts val="6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ndy"/>
              </a:rPr>
              <a:t>Welcome!</a:t>
            </a: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0560" y="2666520"/>
            <a:ext cx="5105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ndy"/>
              </a:rPr>
              <a:t>[Insert Year] School Year</a:t>
            </a:r>
            <a:endParaRPr b="0" lang="en-US" sz="4000" spc="-1" strike="noStrike">
              <a:solidFill>
                <a:srgbClr val="cc0000"/>
              </a:solidFill>
              <a:latin typeface="Andy"/>
            </a:endParaRPr>
          </a:p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c0000"/>
              </a:solidFill>
              <a:latin typeface="Andy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ndy"/>
              </a:rPr>
              <a:t>School Name</a:t>
            </a:r>
            <a:endParaRPr b="0" lang="en-US" sz="2000" spc="-1" strike="noStrike">
              <a:solidFill>
                <a:srgbClr val="cc0000"/>
              </a:solidFill>
              <a:latin typeface="Andy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ndy"/>
              </a:rPr>
              <a:t>Teacher’s Name</a:t>
            </a:r>
            <a:endParaRPr b="0" lang="en-US" sz="2000" spc="-1" strike="noStrike">
              <a:solidFill>
                <a:srgbClr val="cc0000"/>
              </a:solidFill>
              <a:latin typeface="Andy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ndy"/>
              </a:rPr>
              <a:t>Grade Level</a:t>
            </a:r>
            <a:endParaRPr b="0" lang="en-US" sz="2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Goals for the Year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Classroom Policies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701028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Special Projects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134800"/>
            <a:ext cx="701064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Grading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134800"/>
            <a:ext cx="701064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Parent Conferences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134800"/>
            <a:ext cx="701064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34800"/>
            <a:ext cx="701064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3:45:54Z</dcterms:created>
  <dc:creator>leypoldt</dc:creator>
  <dc:description/>
  <cp:keywords/>
  <dc:language>en-US</dc:language>
  <cp:lastModifiedBy>leypoldt</cp:lastModifiedBy>
  <cp:lastPrinted>1996-03-19T21:02:48Z</cp:lastPrinted>
  <dcterms:modified xsi:type="dcterms:W3CDTF">2009-03-24T16:52:54Z</dcterms:modified>
  <cp:revision>5</cp:revision>
  <dc:subject/>
  <dc:title>Welcome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871033</vt:lpwstr>
  </property>
</Properties>
</file>